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946-EEC4-469D-8421-8A488DC3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A16-7712-4384-B7B4-6313502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71D-7DFA-44F3-BA91-7C76D8CD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6AD-7650-44FE-8989-89AFC8B3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320-3500-4C57-90FD-5608DCF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B98-B9DC-491E-AACB-614979BE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283-B89D-457B-9ED7-4881218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D04-39AF-4AC4-825B-B6AED18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80D-72B0-4D4F-BFAC-B0E9D6E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B37-29A6-4599-B9BA-7A347F4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76B-9F0C-4FFD-81C4-D633644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1C7-616B-4321-80CC-BE6342E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9E8-8A11-48E3-AD22-95FC95930CB4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65% del IVA en proyectos habitacionales. Ley modificada en 2008: ahora es por tra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xplot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recupera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invers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11-11-17T11:40:57Z</dcterms:modified>
  <cp:revision>47</cp:revision>
  <dc:subject/>
  <dc:title>CI 52A Métodos Constructivos</dc:title>
</cp:coreProperties>
</file>